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2EF2-18E3-4A5E-9492-F207B5BB6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mage up, pulse given 25 nm before top of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imag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is: we were able to shorten the MWNT tip in air without loosing it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icult, more difficult than in SEM where you can see what you are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bilities happen only on regions with high corr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269-5AEE-471B-B2BA-F8C8BBDD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213-E3AC-4D3D-AC17-0E61E509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018-7097-4065-81CF-9A9006CD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744-6855-42BD-9334-BB286CE5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A4C-8E01-4381-839E-EF7C735D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040-C0F6-46B9-8C9F-E185150C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EA9-6FF1-4E22-93A8-8711230B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149-700E-45E9-AD2F-25E3F35A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43D-9E49-4A39-8DD3-F0795B6D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0F8-23E1-415D-BD1D-5975C0C5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691-9A01-41DA-A25D-BDFC8776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610-60DF-4D68-809A-A04FE9C0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AC78-D079-41FC-A40E-91C1D3190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7162" r="0" b="49991"/>
          <a:stretch/>
        </p:blipFill>
        <p:spPr>
          <a:xfrm>
            <a:off x="347760" y="4489560"/>
            <a:ext cx="8447040" cy="144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178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>
            <a:lum contrast="18000"/>
          </a:blip>
          <a:srcRect l="1802" t="50515" r="71134" b="32648"/>
          <a:stretch/>
        </p:blipFill>
        <p:spPr>
          <a:xfrm>
            <a:off x="609480" y="907920"/>
            <a:ext cx="3962520" cy="184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56960" y="75564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piezo step 277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480" y="12891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720" y="53352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67280" y="1365120"/>
            <a:ext cx="2362320" cy="1968480"/>
            <a:chOff x="5867280" y="1365120"/>
            <a:chExt cx="2362320" cy="1968480"/>
          </a:xfrm>
        </p:grpSpPr>
        <p:pic>
          <p:nvPicPr>
            <p:cNvPr id="55" name="" descr=""/>
            <p:cNvPicPr/>
            <p:nvPr/>
          </p:nvPicPr>
          <p:blipFill>
            <a:blip r:embed="rId3"/>
            <a:srcRect l="37379" t="9122" r="46383" b="72841"/>
            <a:stretch/>
          </p:blipFill>
          <p:spPr>
            <a:xfrm>
              <a:off x="5867280" y="1365120"/>
              <a:ext cx="2362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095880" y="2812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98720" y="3657600"/>
            <a:ext cx="61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if MWNT is short enough for ima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 thin niobium film, grain size around 10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599760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bit too long: feedback instabilities are caused by bending response of MW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13040" y="6424560"/>
            <a:ext cx="538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. Snow, E.S., Campbell, P.M., and Novak, J.P., APL 80 (2002), 200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0:20:09Z</dcterms:created>
  <dc:creator>Dionne</dc:creator>
  <dc:description/>
  <dc:language>en-US</dc:language>
  <cp:lastModifiedBy>Dionne</cp:lastModifiedBy>
  <dcterms:modified xsi:type="dcterms:W3CDTF">2005-01-24T10:27:31Z</dcterms:modified>
  <cp:revision>2</cp:revision>
  <dc:subject/>
  <dc:title>Slide 1</dc:title>
</cp:coreProperties>
</file>